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80E-BAAD-4A12-8764-92C4A2E00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8E1-925D-4F9C-852D-E6873B02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4E9-FD7D-4F52-8E3A-1A41102E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986B-A411-40D9-8A7E-80E5FE655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7A85-8BE5-4736-A7A6-7D9DB1EC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C9FC-CBC1-447D-9A14-BAE2AE0F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DC2C-4462-4648-A300-A30CC037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F452-3654-4790-A228-A7CD7B6E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0CDE-1639-4198-9C0C-2E9F8261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45DB-456D-438B-A9C7-82473027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EA15-241A-4C14-9B5F-AD9E3E8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309-CED1-4939-AD64-80C484C1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72AB-FEC4-47D2-893B-F1A228DF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F6C5-B1F6-40F2-8E50-9F0F68C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A0EF-8973-4BBA-AFF3-F1276B23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872F-2C02-4AA1-B1F5-61F5F04E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B8BF-336C-4D0B-A937-F93769F0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A8B-191F-4309-8B9D-64046D33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D47-387C-4E94-A9F5-7750C6D2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212-99B3-438C-BDB4-EEC5111C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43A-F98D-4274-9EA5-6436B7D0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C302-53A5-4AD8-B6FB-48B66EC9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5F3-DCC1-4A7D-9B7C-A0547756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1DA-DD88-48B1-99BE-4A67A49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AB30-BE19-4BC4-BD8C-0F216B3E3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0197-1218-4ECD-AE59-A6FF131911C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Tahoma"/>
              </a:rPr>
              <a:t>MIŠIĆNA I N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EUROMI</a:t>
            </a:r>
            <a:r>
              <a:rPr b="1" lang="sr-Latn-CS" sz="3600" spc="-1" strike="noStrike">
                <a:solidFill>
                  <a:srgbClr val="333399"/>
                </a:solidFill>
                <a:latin typeface="Tahoma"/>
              </a:rPr>
              <a:t>Š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</a:t>
            </a:r>
            <a:r>
              <a:rPr b="1" lang="sr-Latn-CS" sz="3600" spc="-1" strike="noStrike">
                <a:solidFill>
                  <a:srgbClr val="333399"/>
                </a:solidFill>
                <a:latin typeface="Tahoma"/>
              </a:rPr>
              <a:t>Ć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NA OBOLJEN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Tahoma"/>
              </a:rPr>
              <a:t>Mišićna i neuromišićna oboljenj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Hronična oboljenja koja se odlikuju progresivnom slabošću i atrofijom nekih grupa mišić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cc"/>
                </a:solidFill>
                <a:latin typeface="Tahoma"/>
              </a:rPr>
              <a:t>Mišićne distrofije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( Primarne miopatije) nastaju zbog primarnog oboljenja samog mišić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cc"/>
                </a:solidFill>
                <a:latin typeface="Tahoma"/>
              </a:rPr>
              <a:t>Mišićne atrofije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(sekundarne mišićne atrofije) nastaju zbog lezije  donjeg motornog neuro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Tahoma"/>
              </a:rPr>
              <a:t>Dif. dijagnoza sekundarnih mišićnih atrofija i distrofija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1773360"/>
          <a:ext cx="8559720" cy="5084640"/>
        </p:xfrm>
        <a:graphic>
          <a:graphicData uri="http://schemas.openxmlformats.org/drawingml/2006/table">
            <a:tbl>
              <a:tblPr/>
              <a:tblGrid>
                <a:gridCol w="2881440"/>
                <a:gridCol w="2663640"/>
                <a:gridCol w="3014640"/>
              </a:tblGrid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</a:t>
                      </a: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Sekundarne  mišićne  atrofi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 </a:t>
                      </a: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Distrofije (</a:t>
                      </a:r>
                      <a:r>
                        <a:rPr b="1" lang="sr-Latn-C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rimarne  miopatije)</a:t>
                      </a:r>
                      <a:r>
                        <a:rPr b="1" lang="sr-Latn-C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čet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zno u živo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 detinjstv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Lokaliz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talni mišić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ali miš. šak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ksimalni mišići (karlični i rameni poj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ascikula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o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pastič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že postoja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amilijarna poj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glavnom 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Progresivna mišićna distrofij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ahoma"/>
              </a:rPr>
              <a:t>Pseudohipertrofični tip (Duchenne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ni početak (prve 3 god. živo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seudohipertrofija mišića lista i podlakti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ogresivna, simetrična slabost  mišića karličnog, posle i ramenog pojasa :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gegav hod, teško se penje i silazi niz stepenice, teško ustaje iz ležećeg položaja, “penje se uz sebe”, “anđeoska krila”, hod onemogućen posle 10 god., deformiteti skeleta sa kontrakturam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Recesivno nasledno oboljenje vezano za pol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(oboljevaju muška deca, majke prenosioc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Tahoma"/>
              </a:rPr>
              <a:t>Miotonične distrofi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Miotonična distrofija (Steinert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etka, heredodegenerativna bolest odrasli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iotonični fenomeni (šake, jezi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trofija mišića lica,  vrata, m.  perone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atarakta, disfunkcija gon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Kongenitalna miotonija (Thoms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etka,</a:t>
            </a: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heredofamilijarna, od rođenja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ali Herkulesi”, rigidnost i teškoće opuštanja voljne muskula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Tahoma"/>
              </a:rPr>
              <a:t>Progresivne mišićne atrofij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Sinonim: “</a:t>
            </a:r>
            <a:r>
              <a:rPr b="1" lang="sr-Latn-CS" sz="2800" spc="-1" strike="noStrike">
                <a:solidFill>
                  <a:srgbClr val="ff0000"/>
                </a:solidFill>
                <a:latin typeface="Tahoma"/>
              </a:rPr>
              <a:t>bolesti motornog neurona”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Tahoma"/>
              </a:rPr>
              <a:t>Progresivna spinalna mišićna atrofija odraslih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Aran-Duchenova) -  počinje atrofijom malih mišića šaka, fibrilacijama, sporo se širi ..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Tahoma"/>
              </a:rPr>
              <a:t>Progresivna spinalna mišićna atrofija odojčad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Werdnig-Hoffmanova) – počinje od karličnog pojasa i natkolenica i širi se u ekstremite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333cc"/>
                </a:solidFill>
                <a:latin typeface="Tahoma"/>
              </a:rPr>
              <a:t>Amiotrofička lateralna skleroza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– kombinovana lezija gornjeg i donjeg mot. neurona, zahvata spinalne i/ili bulbarne nivoe. Letalni ishod (3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Myasthenia gravis pseudoparali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Poremećaj neuromišićnog preno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lokada acetilholinskih receptora na neuromišićmoj spojnic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utoimuni poremećaj : antitela u krvi bolesnika koja se vezuju za acetilholinske recept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loga timusa: B limfociti proizovode autoantitela na acetilholinske recept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hiperplazija timusa(70%),  timom (10%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Tahoma"/>
              </a:rPr>
              <a:t>Myasthenia gravis pseudoparalitic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linički zna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Upadljiva slabost i zamorljivost mišića, koja se popravlja posle odmor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zahvaćeni svi mišići (generalizovana paraliza), naročito  bulbarni (nazalan govor, teško guta) i  okularni (ptoza kapka, strabizam,  diplopi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Mijastenična kri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Češća kod žena, početak III-IV decenija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MG kod novorođenčadi majki sa MG (prolazn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Kongenitalna MG (majke zdrave, bebe bolesn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15:55:26Z</dcterms:created>
  <dc:creator>Veronika Ispanovic</dc:creator>
  <dc:description/>
  <dc:language>en-US</dc:language>
  <cp:lastModifiedBy>Info</cp:lastModifiedBy>
  <dcterms:modified xsi:type="dcterms:W3CDTF">2014-12-26T10:08:21Z</dcterms:modified>
  <cp:revision>10</cp:revision>
  <dc:subject/>
  <dc:title>Oboljenja mišića i neuromišićnog prenosa</dc:title>
</cp:coreProperties>
</file>